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FE5-7930-49AC-9EFC-00987CEE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FE3-76E8-4E1E-ADA2-47EE43A9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339-E628-4BD3-A589-F17F9E18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21A-2C4C-41D1-A042-C8E1BD64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10D-A9C2-4CE3-9877-87E86117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715-8C1E-42AD-9BA6-D8D3F327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83B-4859-4288-877C-93CAB4E8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9BA-AEAB-4F82-B23D-FC35D979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867-4023-40C1-978A-F43C90F8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A87-A14B-4CB8-9E8D-939B4011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BE4-119C-4F81-ABB7-8D457D87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9CB-2B54-48FB-8993-BF59DCE1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F9E9-EE35-4345-BE22-0A5302B47B8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391E-7499-4102-A047-982894D43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"/><Relationship Id="rId34" Type="http://schemas.openxmlformats.org/officeDocument/2006/relationships/slide" Target="slide36.xml"/><Relationship Id="rId35" Type="http://schemas.openxmlformats.org/officeDocument/2006/relationships/slide" Target=""/><Relationship Id="rId36" Type="http://schemas.openxmlformats.org/officeDocument/2006/relationships/slide" Target="slide38.xml"/><Relationship Id="rId37" Type="http://schemas.openxmlformats.org/officeDocument/2006/relationships/slide" Target=""/><Relationship Id="rId38" Type="http://schemas.openxmlformats.org/officeDocument/2006/relationships/slide" Target="slide40.xml"/><Relationship Id="rId39" Type="http://schemas.openxmlformats.org/officeDocument/2006/relationships/slide" Target=""/><Relationship Id="rId40" Type="http://schemas.openxmlformats.org/officeDocument/2006/relationships/slide" Target=""/><Relationship Id="rId41" Type="http://schemas.openxmlformats.org/officeDocument/2006/relationships/slide" Target=""/><Relationship Id="rId42" Type="http://schemas.openxmlformats.org/officeDocument/2006/relationships/slide" Target=""/><Relationship Id="rId43" Type="http://schemas.openxmlformats.org/officeDocument/2006/relationships/slide" Target=""/><Relationship Id="rId44" Type="http://schemas.openxmlformats.org/officeDocument/2006/relationships/slide" Target=""/><Relationship Id="rId45" Type="http://schemas.openxmlformats.org/officeDocument/2006/relationships/slide" Target="slide4.xml"/><Relationship Id="rId4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1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1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1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1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1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1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1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2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2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2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2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8" action="ppaction://hlinksldjump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16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7">
            <a:hlinkClick r:id="rId40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8">
            <a:hlinkClick r:id="rId41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9">
            <a:hlinkClick r:id="rId42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20">
            <a:hlinkClick r:id="rId43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5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0">
            <a:hlinkClick r:id="rId44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45" action="ppaction://hlinksldjump"/>
              </a:rPr>
              <a:t>10 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a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ere the children of single mothers who worked in the factories call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tchkey children” or “eight-hour orphan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Roosevelt’s nickname after he retired “Dr. New Deal”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447920" y="3168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. Win-the-Wa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47920" y="261936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the amount of teenagers that had dropped out of high school by 1944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Mill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447920" y="26226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one example of the memories held by the children of the 40’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447920" y="23464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lecting scrap, watching war movies where the good guys always won, and being intensely interested in war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Roosevelt’s response to the Zoot-Suit Rio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demned the prejudice that caused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Migration and one example of where Americans migrated to in the 1940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447920" y="28969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ethnicity were most Zoot-Suit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447920" y="31730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pan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one way communities cracked down on juvenile delinquenc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rf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Deficit Spe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ing borrowed money to counteract economic downtur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447920" y="26226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wo New Deal programs that were cut after the beginning of WW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447920" y="207216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ivilian Construction Corps (CCC), Works Progress Administration (WPA), and National Youth Administration (NY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447920" y="23464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farm workers stopped working on the farms in the 1940’s? How was farm production affected by th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1% left, but production rose (+15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447920" y="28936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ement. California, Texas, and Flori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did racial tensions first explode? Who was blamed for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447920" y="28969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troit. Blamed African American for starting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made more: Typists, Teachers, or Shipyard Work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447920" y="3168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ipyard Work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447920" y="207072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ording to the book, which California city grew the most due to migration in the 1940’s? What is the biggest city in California to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n Diego. Los Ange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hree issues caused by population increases in Boomtow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447920" y="26226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ime, overcrowding in schools, poor living conditions, and racial and social tensions ro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447920" y="28936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people were killed in the Detroit Rio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447920" y="28969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4 people were killed (25 African-American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he city that was most affected by Migration (it’s population grew by 61%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caused the increase in Mexican illegal immigrants during the 1940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447920" y="31694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pportunities for farm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447920" y="28936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id the Zoot Suit signify for its wear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dependence from the rest of socie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447920" y="262404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one reason why Zoot-Suiters were disliked before the Rio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it used too much wool to be ma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hree movements created on the Homefront to help the war effo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447920" y="28951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ycling, Buying War Bonds, Victory Gardens, and ratio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447920" y="261936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ddition to minorities, which group became a large portion of the workforce during the 1940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447920" y="3168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bile, Alab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447920" y="261936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ere two pros for the home front during the war years? What were two con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447920" y="180108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s: full-employment, financial stability, gains in civil rights move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: overcrowding, housing shortages, crime, juvenile delinquenc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447920" y="26226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new style of warfare was used up and down the Western Fro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ench Warf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47920" y="261936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he only group of men to be arrested during the Zoot-Suit Rio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oot-Sui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Eric Rossi</cp:lastModifiedBy>
  <dcterms:modified xsi:type="dcterms:W3CDTF">2010-02-22T14:51:40Z</dcterms:modified>
  <cp:revision>40</cp:revision>
  <dc:subject/>
  <dc:title>Blank Jeopardy</dc:title>
</cp:coreProperties>
</file>